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11D6-FC37-4CDF-8B65-9153BE23A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64FE-B62E-4269-ABBE-58954E8FC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7791-532E-44B9-BCEF-0B2E6061C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42FA-2EE3-4A91-BE6F-CC0D7F25B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FA57-654A-45A5-8F0A-BB5BAEC77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D7F9-C5FD-4164-91ED-79CA79E9C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8CB0-A478-4C98-BFC0-2BEAFFA9B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031E-9863-44E2-A3E0-35202539E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6B51-160B-44FF-BBE4-6C4462A4C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5DE2-029C-4623-972C-4FC81B89B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ED09-ACE7-4DFD-AC8E-19A9757FD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FB1B-0727-4485-8CCE-F933178ED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70420-7249-40FB-82AF-4C0B807B2C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765000"/>
            <a:ext cx="7772400" cy="28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0000ff"/>
                </a:solidFill>
                <a:latin typeface="Arial Unicode MS"/>
              </a:rPr>
              <a:t>Length Conversion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5640" y="4005000"/>
            <a:ext cx="74167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00ff"/>
                </a:solidFill>
                <a:latin typeface="HfW cursive"/>
              </a:rPr>
              <a:t>mm, cm, m, km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80"/>
            </a:gs>
            <a:gs pos="50000">
              <a:srgbClr val="ffffff"/>
            </a:gs>
            <a:gs pos="100000">
              <a:srgbClr val="8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24000" y="189000"/>
            <a:ext cx="82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Arial"/>
              </a:rPr>
              <a:t>There are…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11280" y="1700280"/>
            <a:ext cx="432144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600" spc="-1" strike="noStrike">
                <a:solidFill>
                  <a:srgbClr val="ff0000"/>
                </a:solidFill>
                <a:latin typeface="Arial"/>
              </a:rPr>
              <a:t>750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24360" y="3284640"/>
            <a:ext cx="151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556000" y="4653000"/>
            <a:ext cx="4032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600" spc="-1" strike="noStrike">
                <a:solidFill>
                  <a:srgbClr val="ff0000"/>
                </a:solidFill>
                <a:latin typeface="Arial"/>
              </a:rPr>
              <a:t>¾ km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859280" y="1700280"/>
            <a:ext cx="3672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600" spc="-1" strike="noStrike">
                <a:solidFill>
                  <a:srgbClr val="ff0000"/>
                </a:solidFill>
                <a:latin typeface="Arial"/>
              </a:rPr>
              <a:t>m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5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77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6" dur="770" fill="hold"/>
                                        <p:tgtEl>
                                          <p:spTgt spid="8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8" dur="77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0" dur="77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24000" y="189000"/>
            <a:ext cx="82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Arial"/>
              </a:rPr>
              <a:t>There are…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11280" y="1700280"/>
            <a:ext cx="432144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6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924360" y="3284640"/>
            <a:ext cx="151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059280" y="4653000"/>
            <a:ext cx="295272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600" spc="-1" strike="noStrike">
                <a:solidFill>
                  <a:srgbClr val="ff0000"/>
                </a:solidFill>
                <a:latin typeface="Arial"/>
              </a:rPr>
              <a:t>1cm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95640" y="1700280"/>
            <a:ext cx="3672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600" spc="-1" strike="noStrike">
                <a:solidFill>
                  <a:srgbClr val="ff0000"/>
                </a:solidFill>
                <a:latin typeface="Arial"/>
              </a:rPr>
              <a:t>mm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77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" dur="770" fill="hold"/>
                                        <p:tgtEl>
                                          <p:spTgt spid="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" dur="77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" dur="77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ffffff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24000" y="189000"/>
            <a:ext cx="82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Arial"/>
              </a:rPr>
              <a:t>There are…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411280" y="1700280"/>
            <a:ext cx="432144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600" spc="-1" strike="noStrike">
                <a:solidFill>
                  <a:srgbClr val="ff0000"/>
                </a:solidFill>
                <a:latin typeface="Arial"/>
              </a:rPr>
              <a:t>100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24360" y="3284640"/>
            <a:ext cx="151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59280" y="4653000"/>
            <a:ext cx="295272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600" spc="-1" strike="noStrike">
                <a:solidFill>
                  <a:srgbClr val="ff0000"/>
                </a:solidFill>
                <a:latin typeface="Arial"/>
              </a:rPr>
              <a:t>1m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16360" y="1700280"/>
            <a:ext cx="3672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600" spc="-1" strike="noStrike">
                <a:solidFill>
                  <a:srgbClr val="ff0000"/>
                </a:solidFill>
                <a:latin typeface="Arial"/>
              </a:rPr>
              <a:t>cm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5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7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ff"/>
            </a:gs>
            <a:gs pos="50000">
              <a:srgbClr val="ffffff"/>
            </a:gs>
            <a:gs pos="100000">
              <a:srgbClr val="ff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24000" y="189000"/>
            <a:ext cx="82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Arial"/>
              </a:rPr>
              <a:t>There are…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42920" y="1773360"/>
            <a:ext cx="432108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600" spc="-1" strike="noStrike">
                <a:solidFill>
                  <a:srgbClr val="ff0000"/>
                </a:solidFill>
                <a:latin typeface="Arial"/>
              </a:rPr>
              <a:t>1000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24360" y="3284640"/>
            <a:ext cx="151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59280" y="4653000"/>
            <a:ext cx="295272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600" spc="-1" strike="noStrike">
                <a:solidFill>
                  <a:srgbClr val="ff0000"/>
                </a:solidFill>
                <a:latin typeface="Arial"/>
              </a:rPr>
              <a:t>1m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140360" y="1700280"/>
            <a:ext cx="367164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600" spc="-1" strike="noStrike">
                <a:solidFill>
                  <a:srgbClr val="ff0000"/>
                </a:solidFill>
                <a:latin typeface="Arial"/>
              </a:rPr>
              <a:t>mm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77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2" dur="770" fill="hold"/>
                                        <p:tgtEl>
                                          <p:spTgt spid="5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4" dur="77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6" dur="77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24000" y="189000"/>
            <a:ext cx="82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Arial"/>
              </a:rPr>
              <a:t>There are…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92360" y="1773360"/>
            <a:ext cx="432108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600" spc="-1" strike="noStrike">
                <a:solidFill>
                  <a:srgbClr val="ff0000"/>
                </a:solidFill>
                <a:latin typeface="Arial"/>
              </a:rPr>
              <a:t>500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24360" y="3284640"/>
            <a:ext cx="151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059280" y="4653000"/>
            <a:ext cx="295272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600" spc="-1" strike="noStrike">
                <a:solidFill>
                  <a:srgbClr val="ff0000"/>
                </a:solidFill>
                <a:latin typeface="Arial"/>
              </a:rPr>
              <a:t>½m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5640" y="1700280"/>
            <a:ext cx="3672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600" spc="-1" strike="noStrike">
                <a:solidFill>
                  <a:srgbClr val="ff0000"/>
                </a:solidFill>
                <a:latin typeface="Arial"/>
              </a:rPr>
              <a:t>mm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77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" dur="770" fill="hold"/>
                                        <p:tgtEl>
                                          <p:spTgt spid="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" dur="77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5" dur="77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ffff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24000" y="189000"/>
            <a:ext cx="82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Arial"/>
              </a:rPr>
              <a:t>There are…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692360" y="1700280"/>
            <a:ext cx="432108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600" spc="-1" strike="noStrike">
                <a:solidFill>
                  <a:srgbClr val="ff0000"/>
                </a:solidFill>
                <a:latin typeface="Arial"/>
              </a:rPr>
              <a:t>750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924360" y="3284640"/>
            <a:ext cx="151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059280" y="4653000"/>
            <a:ext cx="295272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600" spc="-1" strike="noStrike">
                <a:solidFill>
                  <a:srgbClr val="ff0000"/>
                </a:solidFill>
                <a:latin typeface="Arial"/>
              </a:rPr>
              <a:t>¾ m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995640" y="1700280"/>
            <a:ext cx="3672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600" spc="-1" strike="noStrike">
                <a:solidFill>
                  <a:srgbClr val="ff0000"/>
                </a:solidFill>
                <a:latin typeface="Arial"/>
              </a:rPr>
              <a:t>mm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77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0" dur="770" fill="hold"/>
                                        <p:tgtEl>
                                          <p:spTgt spid="6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2" dur="77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4" dur="77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50000">
              <a:srgbClr val="ffffff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24000" y="189000"/>
            <a:ext cx="82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Arial"/>
              </a:rPr>
              <a:t>There are…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835280" y="1700280"/>
            <a:ext cx="432108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600" spc="-1" strike="noStrike">
                <a:solidFill>
                  <a:srgbClr val="ff0000"/>
                </a:solidFill>
                <a:latin typeface="Arial"/>
              </a:rPr>
              <a:t>1000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24360" y="3284640"/>
            <a:ext cx="151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059280" y="4653000"/>
            <a:ext cx="295272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600" spc="-1" strike="noStrike">
                <a:solidFill>
                  <a:srgbClr val="ff0000"/>
                </a:solidFill>
                <a:latin typeface="Arial"/>
              </a:rPr>
              <a:t>1km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932360" y="1700280"/>
            <a:ext cx="3672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600" spc="-1" strike="noStrike">
                <a:solidFill>
                  <a:srgbClr val="ff0000"/>
                </a:solidFill>
                <a:latin typeface="Arial"/>
              </a:rPr>
              <a:t>m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77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9" dur="770" fill="hold"/>
                                        <p:tgtEl>
                                          <p:spTgt spid="6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1" dur="77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3" dur="77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24000" y="189000"/>
            <a:ext cx="82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Arial"/>
              </a:rPr>
              <a:t>There are…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124000" y="1700280"/>
            <a:ext cx="273528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600" spc="-1" strike="noStrike">
                <a:solidFill>
                  <a:srgbClr val="ff0000"/>
                </a:solidFill>
                <a:latin typeface="Arial"/>
              </a:rPr>
              <a:t>500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24360" y="3284640"/>
            <a:ext cx="151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059280" y="4653000"/>
            <a:ext cx="417672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600" spc="-1" strike="noStrike">
                <a:solidFill>
                  <a:srgbClr val="ff0000"/>
                </a:solidFill>
                <a:latin typeface="Arial"/>
              </a:rPr>
              <a:t>½ km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72000" y="1700280"/>
            <a:ext cx="3672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600" spc="-1" strike="noStrike">
                <a:solidFill>
                  <a:srgbClr val="ff0000"/>
                </a:solidFill>
                <a:latin typeface="Arial"/>
              </a:rPr>
              <a:t>m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77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8" dur="770" fill="hold"/>
                                        <p:tgtEl>
                                          <p:spTgt spid="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0" dur="77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2" dur="77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50000">
              <a:srgbClr val="ffffff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24000" y="189000"/>
            <a:ext cx="82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Arial"/>
              </a:rPr>
              <a:t>There are…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411280" y="1700280"/>
            <a:ext cx="432144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600" spc="-1" strike="noStrike">
                <a:solidFill>
                  <a:srgbClr val="ff0000"/>
                </a:solidFill>
                <a:latin typeface="Arial"/>
              </a:rPr>
              <a:t>250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24360" y="3284640"/>
            <a:ext cx="151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059280" y="4653000"/>
            <a:ext cx="40338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600" spc="-1" strike="noStrike">
                <a:solidFill>
                  <a:srgbClr val="ff0000"/>
                </a:solidFill>
                <a:latin typeface="Arial"/>
              </a:rPr>
              <a:t>¼ km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43280" y="1628640"/>
            <a:ext cx="3672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600" spc="-1" strike="noStrike">
                <a:solidFill>
                  <a:srgbClr val="ff0000"/>
                </a:solidFill>
                <a:latin typeface="Arial"/>
              </a:rPr>
              <a:t>m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77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7" dur="770" fill="hold"/>
                                        <p:tgtEl>
                                          <p:spTgt spid="7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9" dur="77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1" dur="77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7T13:20:05Z</dcterms:created>
  <dc:creator>Sudell Primary School</dc:creator>
  <dc:description/>
  <dc:language>en-US</dc:language>
  <cp:lastModifiedBy>Pitchford</cp:lastModifiedBy>
  <dcterms:modified xsi:type="dcterms:W3CDTF">2006-09-25T12:40:33Z</dcterms:modified>
  <cp:revision>2</cp:revision>
  <dc:subject/>
  <dc:title>Slide 1</dc:title>
</cp:coreProperties>
</file>